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0F2-F5DF-4E04-A358-331267C1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246-CD84-46D6-9371-A8E5FAD2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BC2-B2C2-4B94-8A45-5B3A428B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909-F8E4-4D7A-8519-02ED492A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2B4-D396-4CFA-AB2D-462BBF7F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B82-B174-4661-A2AB-72C022E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9E8-4687-4CCB-B059-5DE33A85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AED-A25F-4EFA-A50E-637288DC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EEC-DAA3-4990-A96B-FFDF5983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A18-C2E8-4CBB-B731-9361F3A5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FCB-F91F-4480-8951-25948E9F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21C-C179-47ED-9E34-930F1F37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CC14-00F1-4EF2-97BB-56F687BDF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anton Tea Warehouse, ca. 1800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uropeans with kerchiefs superv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5257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ium Wars,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6-60: second Opium War (Brit + F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4x-5: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5: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iping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ng Xiuquan (1813-18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hoolteacher, failed bureau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"brother of Jesus Chris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iping: "Great Peac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ctrine: similar to Marx' soci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assless, egalitarian society (women, too) prohibited foot b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blic education: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mocratic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litary &amp; bureaucratic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mote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441972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successful Due to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ctionalism within the Rebellion cause loss of momentum until it is suppressed in 1864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42000" y="380880"/>
            <a:ext cx="2517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bellion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3: captured Nanjing (massac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5: Taipings halted at Beij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6: Taipings threaten Shang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radical: scholar-gentry sides with Qing regional armies staffed by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0: Taipings limited to Nanj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2: Hong retreats to private life (1864 suic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4: Nanjing retaken - total death toll: 20-3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Qing re-conquers Nanjing, 18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315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60 Treaty of Tianjin (Tients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and French hurting from trade restrictions and limitations on their missionary activities take a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ing new attacks against China and seize Beijing in 1860 destroying the imperial summer pala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Included: legalization of opium, opening of additional ports to foreign and cessions of the peninsula of Kowloon.  Other areas ceded to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the Qi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d at the end of th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4, the Qing lose war to Japan over the Kore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7 – Germany exploits an incident including the death of 2 missionaries to demand territories and trade Shandong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demand for territories of other powers due to the fear of losing out on raw materials and China’s potential mar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 demands and gets Port Arthur and Great Britain further demands coaling stations in the North of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 cannot reform fast enough to maintain political power against the W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267080" y="380880"/>
            <a:ext cx="44960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pen Door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ge 6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205740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“gentleman’s policy” that allowed Britain, France, Germany , Russia, the United States and Japan to have spheres of influence or economic zones on the cost of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ept from U.S. Secretary of State John H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50760"/>
            <a:ext cx="76960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Reform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9: "Society of Righteous and Harmonious Fist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xer rebe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fo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ed by Empress dowager Ci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0: 140,000 besiege Beij. foreign embas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crushed by British, French, Russian, US,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 &amp; Japanese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dited Qing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8 Cixi dies, succeeded by 2-year-old Pu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1: revolution topples Qing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010280" y="3886200"/>
            <a:ext cx="1990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600200"/>
            <a:ext cx="861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g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u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sty (1271 - 13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sty (1368 - 16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ch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sty (1644 - 19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ion and new crops: demographic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mio. ca. 1650 to 300 mio. ca. 18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erors Kangxi (b.1654, r. 1661-1723): 61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ngzheng (b. 1678, r. 1723-17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ianlo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711-1799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. 1736-1796): 6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Dynas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262400" cy="4876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62520" y="1752480"/>
            <a:ext cx="2552760" cy="2063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0" y="228600"/>
            <a:ext cx="2043000" cy="242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800600" y="3962520"/>
            <a:ext cx="1608120" cy="266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208908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the Chinese fail to make the leap from the 'commercial revolution' of the later Ming period (1600-1650) to an 'industrial revolution' of the kind that began in the West a century l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em for arts: little emphasis on material accu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prominence of engineers and inv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cian ethos (vs. dissent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o admiration for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etention of the old, not invention of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39100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uniform system of weights and measures – primitive banking compared to Euro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money aband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ect of infrastructure including the Grand 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traders and nations (including US and Japan) have access to Chinese ports and trade until the rise of the Communist government in 1949 under the leadership of Mao Zed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while, China is in a civil war between Communism led first by Sun Yet-Sen then Mao and the Nationalists lead by dictator Chiang Kai-shek (Jiang Jieshi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5146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230040"/>
            <a:ext cx="75438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27600" cy="359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43480" y="53352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: World Superpower till 17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5 Chinese ship: 4x length, 9x c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of Columbus's Sant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Arial"/>
              </a:rPr>
              <a:t>Qing China (Manch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Cant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Canton=Guangzh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13 warehouses on Pearl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75 miles from Macao &amp;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1759-18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trading system imposed by 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all foreign trade highly regulated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confined to Ca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tea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, silk, porcelain, handcrafts (lacquer ware) paid for with si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51460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ianlong (Ch’ien Lung)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ter to George III (179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China has no need to import goods produced by outside barbaria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We possess all things. I see no value on objects strange or ingenious, and have no use for your country's manufactures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r vessels touch the shore, your merchants will assuredly never be permitted to land or to reside there, but will be subject to instant expulsion. … Tremblingly obey and show no negligence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8242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George Macartne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12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usin of king, ambassador to Russia, and governor of Mad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ord Macartney's mission,1793:  textiles, cutlery, pottery, clocks, scientific gadgets, musical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mperor refused to kowtow; George sent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921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ium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country trade": British Indian op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nd into China to balance exchange, esp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39: Lin Zexu's letter to Queen Vi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39-1842 (first) Opium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Nanking: indemnity, Hong Ko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fair tariff," 5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3: Brits not subject to Chinese law extraterritori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82880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981080" cy="131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876760" cy="178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172200" y="4419720"/>
            <a:ext cx="259092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e in Te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na and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29: 200 chests (60 kg=133 lbs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67: 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: 4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1: 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5: 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31: 16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38: 4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39: 20,283 chests destroyed by Lin Zex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0: 30,000/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7: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15019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6:23:00Z</dcterms:created>
  <dc:creator>ripkensa</dc:creator>
  <dc:description/>
  <dc:language>en-US</dc:language>
  <cp:lastModifiedBy>ripkensa</cp:lastModifiedBy>
  <dcterms:modified xsi:type="dcterms:W3CDTF">2010-03-05T23:16:49Z</dcterms:modified>
  <cp:revision>3</cp:revision>
  <dc:subject/>
  <dc:title>Chinese Imperialism</dc:title>
</cp:coreProperties>
</file>